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658D-8D0E-46A1-A1C2-5F51E6D86ADF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CA6E-D749-4568-BE7F-18F81A458DF5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D54-41A5-44FF-BA67-E4E52D1975F6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E76B-83DC-4AC9-8B41-2EE1F06BAC0A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44F-AB41-4100-8BC8-90ED1201E4B4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C7F-3BC4-40B1-937C-C0B853B8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071-FD7B-4E36-8F62-948EEC4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7A4-5C45-43CF-86F3-4381E85D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6FB-BB3B-4DCD-852E-8EE42AB7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C4F-42C7-45B7-B20A-FDB851D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2A-614B-4560-8505-AD5E6FF9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C00-01BE-4450-852F-4238D43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251-DFC5-4274-8083-4D8A77D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7A2-7D82-41CB-814A-528BA6E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A64-CE3E-4604-921C-92B13F4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2F8-9E1A-485B-9A88-99BF3B4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D8B-5977-4A8C-874D-C459051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AA0-12B0-485B-945D-1210BC869A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6"/>
          <p:cNvSpPr/>
          <p:nvPr/>
        </p:nvSpPr>
        <p:spPr>
          <a:xfrm>
            <a:off x="1114560" y="257796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Tahoma"/>
                <a:ea typeface="Calibri"/>
              </a:rPr>
              <a:t>Konkurs architektoniczny realizacyjny na opracowanie zagospodarowania przestrzeni publicznych w obszarze Alei Wojska Polskiego w Szczec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7"/>
          <p:cNvSpPr/>
          <p:nvPr/>
        </p:nvSpPr>
        <p:spPr>
          <a:xfrm>
            <a:off x="6424200" y="585792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Szczecin, 27-06-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260360" y="5805360"/>
            <a:ext cx="431964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50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395280" y="1054440"/>
            <a:ext cx="49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Sąd konkursowy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5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395280" y="1557360"/>
            <a:ext cx="8209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Przewodniczący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Paweł Detko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Zastępca Przewodniczącego Sądu konkursowego - członek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Jarosław Bondar – Architekt Miasta, Urząd Miasta 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ędzia Refer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Tomasz Cykalewicz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Członkowie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rch. Elżbieta Głowacka – Zastępca Dyrektora Wydziału Urbanistyki i Administracji Budowlane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rząd Miasta 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Anna Nawacka-Górzeńska – Dyrektor Biura Planowania Przestrzennego M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Marek Orłowski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63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73" name="Prostokąt 15"/>
          <p:cNvSpPr/>
          <p:nvPr/>
        </p:nvSpPr>
        <p:spPr>
          <a:xfrm>
            <a:off x="468360" y="1614600"/>
            <a:ext cx="835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1. Nagrody pienię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I NAGRODA –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35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II NAGRODA –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20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3 wyróżnienia po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5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Łączna pula nagród: 70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2. Zaproszenie do udziału i negocjacji w postępowaniu o udzielenie zamówienia publicznego w trybie zamówienia z wolnej ręki Uczestnika, którego praca zostanie uznana przez Sąd Konkursowy za najlepszą (I NAGROD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8360" y="1054440"/>
            <a:ext cx="21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Nagrody w konkurs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76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466560" y="1053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Zakres inwestycji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85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13"/>
          <p:cNvSpPr/>
          <p:nvPr/>
        </p:nvSpPr>
        <p:spPr>
          <a:xfrm>
            <a:off x="468360" y="1474920"/>
            <a:ext cx="8675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westycja, która planowana jest do realizacji w wyniku rozstrzygnięcia konkursowego będzie obejmował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zebudowę Alei Wojska Polskiego na odcinku od Placu Zwycięstwa do Placu Szarych Szereg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granicach działek Gminy Miasto Szczec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zagospodarowanie 3 placów przy Alei Wojska Polskiego, tj. Placu Zgody, terenu u zbiegu ulicy Ściegiennego i ulicy Królowej Jadwigi oraz terenu u zbiegu ulicy Obrońców Stalingradu i Alei Wojska Polskiego – w granicach działek Gminy Miasto Szczec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zagospodarowanie ulic sąsiednich do Alei Wojska Polskiego, tj. odcinka ulicy Śląskiej bez przejazd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od ulicy Więckowskiego do drogi wewnętrznej za budynkami Spółdzielni Mieszkaniowej „Śródmieście”) i odcinka ulicy Jagiellońskiej (od Alei Piastów do Alei Wojska Polskiego) – w granicach działek Gminy Miasto Szczec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Rozwiązania projektowe powinny umożliwiać etapową realizację inwestycji w sposób pokazany w opracowaniu konkurs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ole tekstowe 6"/>
          <p:cNvSpPr/>
          <p:nvPr/>
        </p:nvSpPr>
        <p:spPr>
          <a:xfrm>
            <a:off x="3348000" y="2924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Tahoma"/>
                <a:ea typeface="Calibri"/>
              </a:rPr>
              <a:t>Dziękuję za uwag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7"/>
          <p:cNvSpPr/>
          <p:nvPr/>
        </p:nvSpPr>
        <p:spPr>
          <a:xfrm>
            <a:off x="6424200" y="585792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Szczecin, 27-06-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260360" y="5805360"/>
            <a:ext cx="431964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92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E:\widok_2_v2.jpg"/>
          <p:cNvPicPr/>
          <p:nvPr/>
        </p:nvPicPr>
        <p:blipFill>
          <a:blip r:embed="rId4"/>
          <a:stretch/>
        </p:blipFill>
        <p:spPr>
          <a:xfrm>
            <a:off x="12600" y="1173240"/>
            <a:ext cx="9131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52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57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:\widok_3_v2.jpg"/>
          <p:cNvPicPr/>
          <p:nvPr/>
        </p:nvPicPr>
        <p:blipFill>
          <a:blip r:embed="rId4"/>
          <a:stretch/>
        </p:blipFill>
        <p:spPr>
          <a:xfrm>
            <a:off x="0" y="1104840"/>
            <a:ext cx="91249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63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E:\widok_1_v2.jpg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rcRect l="98928" t="99052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74" name="Line 2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98928" t="99052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78" name="Line 6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rcRect l="0" t="0" r="70167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539640" y="590400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 i zabudow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śródmiejskiego odcinka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539640" y="624960"/>
            <a:ext cx="860436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7.10.2014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ferencja 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„Atrakcyjny Szczecin – Aleja Wojska Polskiego” w ramach Westivalu Architektury 2014. Debata na temat Alei, podjęcie próby wstępnej diagnozy problemów oraz odpowiedzi na pytanie, jak odwrócić obecne, niekorzystne trendy a także, w jaki sposób zmieniać zarówno Aleję, jak i cały obszar szczecińskiego centr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7.11.2014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Sali Sesyjnej Rady Miasta Szczecin. Przedstawienie podsumowania dotychczasowych uwag, wniosków i propozycji pozyskanych po konferencji oraz planu działań związanych z rewitalizacją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Grudzień 2014 r. – działania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ramach Projektu „Moje miasto – moja ulica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Cykl wydarzeń edukacyjno-badawczych, zrealizowanych przez organizacje pozarządową, obejmowały warsztaty dla dzieci i seniorów, spotkania z ekspertami, przeprowadzenie ankiet dot. opinii i postaw mieszkańców Szczecina nt. 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6.04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Sali Sesyjnej Rady Miasta Szczecin. Zaprezentowanie analiz komunikacyjnych dotyczących Alei Wojska Polskiego na odcinku od Placu Zwycięstwa do Placu Szarych Szeregów – 12 wariantów. Zaproszenie do składania uw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2.07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spotkani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w Sali Sesyjnej Rady Miasta Szczecin. Zaprezentowanie nowych wariantów analiz komunikacyjnych dotyczących Alei Wojska Polskiego na odcinku od Placu Zwycięstwa do Placu Szarych Szeregów w wyniku zebranych uwag oraz sugesti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Sierpień 2015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badania socjologi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n. „Śródmiejski odcinek Alei Wojska Polskiego w oczach mieszkańców Szczecina.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 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Celem badania było uzyskanie danych i informacji służących podejmowaniu optymalnych decyzji oraz działań w procesie rewitalizacji Alei Wojska Polskiego. Elementem badań były 4 warianty analiz komunikacyjnych dotyczących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31.08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na Deptaku Bogusława. Zaprezentowanie wyników przeprowadzonych badan socjologicznych oraz ponowne zaprezentowanie 4 warianty analiz komunikacyjnych dotyczących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7.05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Gmina Miasto Szczecin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rzystąpiła do konkursu na „Modelową Rewitalizację Miast”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, zorganizowanego przez Ministerstwo Infrastruktury i Rozwoju (obecnie Ministerstwo Rozwoju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01.08.2016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odpisani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umowy dotacyjnej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między Gminą Miasto Szczecin a Ministerstwem Rozwoju na realizację projektu pn. „Rewitalizacja obszaru przestrzeni publicznej i zabudowy śródmiejskiego odcinka Alei Wojska Polskiego w Szczecni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8.01.2017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4wariantów przebudowy Alei z Radami Osiedli (37 rad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6.05.2017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debata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nt. planów rewitalizacji alei Wojska Polskiego na odcinku od Placu Zwycięstwa do Placu Szarych Szeregó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98928" t="99052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85" name="Line 2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rcRect l="98928" t="99052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3"/>
          <a:srcRect l="0" t="0" r="70167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9640" y="1111320"/>
            <a:ext cx="8280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Projekt pn. „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i zabudowy śródmiejskiego odcinka Alei Wojska Polskiego w Szczecin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” jest współfinansowany ze środków Unii Europejskiej w ramach Programu Operacyjnego Pomoc Techniczna 2014-2020 i został wybrany w konkursie na „Modelową rewitalizację miast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Umowa dotacyjna z Ministerstwem Rozwoju została podpisana w dniu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1 sierpnia 2016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Wysokość przyznanej dotacji: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3.762.090 zł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Łączna wysokość projektu (kwota dotacji 90% i wkład własny 10%) wynosi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4.180.100 zł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Dotacja współfinansowana jest w 85% ze środków Unii Europejskiej, w ramach Funduszu Spójności w ramach Programu Operacyjnego Pomoc Techniczna 2014-2020 oraz w 15% z budżetu państw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Termin realizacji projektu został ustalony na dzień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31 grudnia 2018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539640" y="590400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 i zabudow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śródmiejskiego odcinka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19" descr="podklad.jpg"/>
          <p:cNvPicPr/>
          <p:nvPr/>
        </p:nvPicPr>
        <p:blipFill>
          <a:blip r:embed="rId4"/>
          <a:srcRect l="13098" t="0" r="9270" b="0"/>
          <a:stretch/>
        </p:blipFill>
        <p:spPr>
          <a:xfrm>
            <a:off x="5364000" y="984240"/>
            <a:ext cx="3600720" cy="5369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79280" y="1141200"/>
            <a:ext cx="504036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Zakres obszarowy konkursu obejmuj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Aleję Wojska Polskiego na odcinku od Planu Zwycięstwa do Placu Szarych Szereg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Plac Zgod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en u zbiegu ulicy Ściegiennego i ulicy Królowej Jadwigi (teren po dawnej fontannie tzw. „ścianie płaczu”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en u zbiegu ulicy Obrońców Stalingradu i Alei Wojska Polskiego (przed wieżowcami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odcinek ulicy Śląskiej bez przejazdu (od ulicy Więckowskiego do drogi wewnętrznej za budynkami Spółdzielni Mieszkaniowej „Śródmieście”) wraz z terenem drogi wewnętrznej za ww. budynkam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odcinek ulicy Jagiellońskiej (od Alei Piastów do Alei Wojska Polskieg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06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18"/>
          <p:cNvSpPr/>
          <p:nvPr/>
        </p:nvSpPr>
        <p:spPr>
          <a:xfrm>
            <a:off x="282240" y="4581360"/>
            <a:ext cx="33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Powierzchnia obszaru opracow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konkursowego: 3,346 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10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250920" y="861120"/>
            <a:ext cx="504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2060"/>
                </a:solidFill>
                <a:latin typeface="Tahoma"/>
                <a:ea typeface="Times New Roman"/>
              </a:rPr>
              <a:t>Przedmiotem konkursu jest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ykonanie i zaprezentowanie przez Uczestników, przeznaczonego do realizacji, zagospodarowania przestrzeni publicznych w obszarze Alei Wojska Polskieg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dcinku pomiędzy Placem Zwycięstwa i Placem Szarych Szeregów w Szczecinie oraz przeniesienie autorskich praw majątkowych do wybranych przez Sąd Konkursowy pr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mandrusz\Desktop\Przechwytywanie5.JPG"/>
          <p:cNvPicPr/>
          <p:nvPr/>
        </p:nvPicPr>
        <p:blipFill>
          <a:blip r:embed="rId5"/>
          <a:stretch/>
        </p:blipFill>
        <p:spPr>
          <a:xfrm>
            <a:off x="5292720" y="1022400"/>
            <a:ext cx="3727440" cy="5288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250920" y="2487240"/>
            <a:ext cx="504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Podstawą do opracowania pracy konkursowej je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1) obowiązujący miejscowy plan zagospodarowania przestrzenn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2) koncepcja projektowa branży drogowej przebudowy Alei Wojska Polskiego, autorstwa Biura Inżynierskiego „DAMART” Kraśniański i Wspólnicy Sp. j. – Warian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ozwiązania projektowe pracy konkursowej powinny być zgodne z założeniami przyjętej przez Gminę Miasto Szczecin ww. koncepcji projektowej w Wariancie nr 1, przy założeniu możliwej jej modyfikacji nie naruszającej zasadniczych założeń dot.: parametrów jezdni, sposobu rozwiązania parkowania samochodów (w zakresie utrzymania zasady) oraz rozwiązań w zakresie komunikacji publicznej (nie włączając w to rozmieszczenia przystank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3) inne uwarunkowania opisane w Regulaminie konkur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24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79280" y="1054440"/>
            <a:ext cx="49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Celem konkursu jest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33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rostokąt 13"/>
          <p:cNvSpPr/>
          <p:nvPr/>
        </p:nvSpPr>
        <p:spPr>
          <a:xfrm>
            <a:off x="324000" y="1413000"/>
            <a:ext cx="8640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Wybór najlepszego projektu przebudowy Alei Wojska Polskiego (w zakresie pasa drogowego) na odcinku od Placu Zwycięstwa do Placu Szarych Szeregów wraz z terenami i ulicami sąsiadując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projektu nowego rozwiązania funkcjonalnego i przestrzennego w obszarze opracowania konkursowego, zwiększającego atrakcyjność śródmiejskiego odcinka Alei Wojska Polskiego jako miejsca zamieszkania oraz aktywności społeczno-gospodarczej i kulturalnej, poprzez odpowiednie kształtowanie przestrzeni miejskiej, w tym organizowanie atrakcyjnych przestrzeni publicznych i komunikacyjnych w śródmieśc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koncepcji projektowej, poprawiającej estetykę obszaru poprzez przedstawienie spójnej wizji kolorystyki elewacji – dla pierzei wzdłuż Alei Wojska Polskiego na odcinku pomiędzy Placem Zgody i ulicą Jagiellońską – przy założeniu utrzymania kolorystyki już zrealizowanych obiektów, w szczególności wpisanych do ewidencji zabytk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projektu indywidualnego mebla miejskiego wraz z aranżacją przestrzeni wskazanych obszar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koncepcji projektowej pokazującej spójny sposób realizacji zagadnienia reklamy w przestrzeni miejskiej, z uwzględnieniem tablic i urządzeń reklamowych na elewacjach budynków (w tym szyldów) – dla pierzei wzdłuż Alei Wojska Polskiego na odcinku pomiędzy Placem Zgody i ulicą Jagiellońską – przy założeniu realizacji zadania wg zapisów projektu "Uchwały krajobrazowej Miasta Szczecin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179280" y="110520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miny przewidziane  w konkurs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719360"/>
          <a:ext cx="8496360" cy="3581280"/>
        </p:xfrm>
        <a:graphic>
          <a:graphicData uri="http://schemas.openxmlformats.org/drawingml/2006/table">
            <a:tbl>
              <a:tblPr/>
              <a:tblGrid>
                <a:gridCol w="5400720"/>
                <a:gridCol w="3095640"/>
              </a:tblGrid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910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Czynnoś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910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Ter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pytań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tyczących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wniosków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 dopuszczenie do udziału w konkurs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3 lipc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Udziele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dpowiedzi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na pytania Uczestników dotyczące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wniosk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7 lipc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wniosków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o dopuszczenie do udziału w konkur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3 lipc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Zawiadomienie Uczestników 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puszczeniu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 udziału w konkur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4 sierpni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ytań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tyczących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egulami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6 sierpni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. 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Udziele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dpowiedzi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na pytania Uczestników dotycząc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egulaminu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22 sierpni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prac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konkurs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0 listopada 2017 r.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ozstrzygnięcie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konkurs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w dniu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30 listopad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02:05Z</dcterms:created>
  <dc:creator>abednarz; jbondar</dc:creator>
  <dc:description/>
  <dc:language>en-US</dc:language>
  <cp:lastModifiedBy>jbondar</cp:lastModifiedBy>
  <dcterms:modified xsi:type="dcterms:W3CDTF">2017-06-27T09:33:41Z</dcterms:modified>
  <cp:revision>425</cp:revision>
  <dc:subject/>
  <dc:title>Slajd 1</dc:title>
</cp:coreProperties>
</file>