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6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600"/>
            <a:ext cx="298440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C9C1-5E5F-4C4C-8B1C-A86A7DD2C4BB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ymbol zastępczy numeru slajdu 3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7A1C-7176-42E7-91EF-87E399BEC8AE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ymbol zastępczy numeru slajdu 3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3E1A-9A3A-469B-92D0-798E0273C03B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103B-B637-482D-8CAB-E523481CAA21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02040" y="9516960"/>
            <a:ext cx="2984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CD6F-C813-4EC3-9C06-449E2DCF6442}" type="slidenum">
              <a:rPr b="0" lang="pl-PL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1400" y="752400"/>
            <a:ext cx="5005440" cy="375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CF2-8E67-4D23-BA82-8E6AFC1A0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2414-AD63-4BAA-8428-124FC5C9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EEE6-D3DA-46F6-AF40-1B1D7B78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4010-8B95-4A2C-A928-B28ED10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224-9C81-4DBD-B510-902F1BE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C20-0B55-4DB7-95AF-7E74D40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7AC-23D6-4741-8399-90D7CF66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FB79-72BD-4688-A76C-F57AEBBB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8C5-18BF-40AD-A05D-491E643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057-B7B3-4555-9465-FB0076E4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051-4516-47A0-BC48-F09DD890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A1DE-AF6A-4F54-86DA-94CB0806D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BC95-D45B-4F9C-B4C9-8FF8C95E85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ole tekstowe 6"/>
          <p:cNvSpPr/>
          <p:nvPr/>
        </p:nvSpPr>
        <p:spPr>
          <a:xfrm>
            <a:off x="1114560" y="257796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Tahoma"/>
                <a:ea typeface="Calibri"/>
              </a:rPr>
              <a:t>Konkurs architektoniczny realizacyjny na opracowanie zagospodarowania przestrzeni publicznych w obszarze Alei Wojska Polskiego w Szczec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ole tekstowe 7"/>
          <p:cNvSpPr/>
          <p:nvPr/>
        </p:nvSpPr>
        <p:spPr>
          <a:xfrm>
            <a:off x="6424200" y="585792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Szczecin, 27-06-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1260360" y="5805360"/>
            <a:ext cx="431964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50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55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395280" y="1054440"/>
            <a:ext cx="49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Sąd konkursowy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5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rostokąt 15"/>
          <p:cNvSpPr/>
          <p:nvPr/>
        </p:nvSpPr>
        <p:spPr>
          <a:xfrm>
            <a:off x="395280" y="1557360"/>
            <a:ext cx="8209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Przewodniczący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Paweł Detko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Zastępca Przewodniczącego Sądu konkursowego - członek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Jarosław Bondar – Architekt Miasta, Urząd Miasta 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Sędzia Refere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Tomasz Cykalewicz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Arial"/>
              </a:rPr>
              <a:t>Członkowie Sądu konkursoweg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arch. Elżbieta Głowacka – Zastępca Dyrektora Wydziału Urbanistyki i Administracji Budowlane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Urząd Miasta Szczec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Anna Nawacka-Górzeńska – Dyrektor Biura Planowania Przestrzennego M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- arch. Marek Orłowski – Stowarzyszenie Architektów Polsk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63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68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73" name="Prostokąt 15"/>
          <p:cNvSpPr/>
          <p:nvPr/>
        </p:nvSpPr>
        <p:spPr>
          <a:xfrm>
            <a:off x="468360" y="1614600"/>
            <a:ext cx="8351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1. Nagrody pienięż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I NAGRODA –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35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II NAGRODA –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20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3 wyróżnienia po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5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Łączna pula nagród: 70 000,00 zł bru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2. Zaproszenie do udziału i negocjacji w postępowaniu o udzielenie zamówienia publicznego w trybie zamówienia z wolnej ręki Uczestnika, którego praca zostanie uznana przez Sąd Konkursowy za najlepszą (I NAGROD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68360" y="1054440"/>
            <a:ext cx="215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Nagrody w konkurs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76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81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466560" y="10530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Zakres inwestycji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85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rostokąt 13"/>
          <p:cNvSpPr/>
          <p:nvPr/>
        </p:nvSpPr>
        <p:spPr>
          <a:xfrm>
            <a:off x="468360" y="1474920"/>
            <a:ext cx="86756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Inwestycja, która planowana jest do realizacji w wyniku rozstrzygnięcia konkursowego będzie obejmował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przebudowę Alei Wojska Polskiego na odcinku od Placu Zwycięstwa do Placu Szarych Szereg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w granicach działek Gminy Miasto Szczec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zagospodarowanie 3 placów przy Alei Wojska Polskiego, tj. Placu Zgody, terenu u zbiegu ulicy Ściegiennego i ulicy Królowej Jadwigi oraz terenu u zbiegu ulicy Obrońców Stalingradu i Alei Wojska Polskiego – w granicach działek Gminy Miasto Szczecin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zagospodarowanie ulic sąsiednich do Alei Wojska Polskiego, tj. odcinka ulicy Śląskiej bez przejazd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(od ulicy Więckowskiego do drogi wewnętrznej za budynkami Spółdzielni Mieszkaniowej „Śródmieście”) i odcinka ulicy Jagiellońskiej (od Alei Piastów do Alei Wojska Polskiego) – w granicach działek Gminy Miasto Szczec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Arial"/>
              </a:rPr>
              <a:t>Rozwiązania projektowe powinny umożliwiać etapową realizację inwestycji w sposób pokazany w opracowaniu konkursowy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ole tekstowe 6"/>
          <p:cNvSpPr/>
          <p:nvPr/>
        </p:nvSpPr>
        <p:spPr>
          <a:xfrm>
            <a:off x="3348000" y="2924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Tahoma"/>
                <a:ea typeface="Calibri"/>
              </a:rPr>
              <a:t>Dziękuję za uwag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ole tekstowe 7"/>
          <p:cNvSpPr/>
          <p:nvPr/>
        </p:nvSpPr>
        <p:spPr>
          <a:xfrm>
            <a:off x="6424200" y="5857920"/>
            <a:ext cx="189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Szczecin, 27-06-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260360" y="5805360"/>
            <a:ext cx="4319640" cy="4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92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97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E:\widok_2_v2.jpg"/>
          <p:cNvPicPr/>
          <p:nvPr/>
        </p:nvPicPr>
        <p:blipFill>
          <a:blip r:embed="rId4"/>
          <a:stretch/>
        </p:blipFill>
        <p:spPr>
          <a:xfrm>
            <a:off x="12600" y="1173240"/>
            <a:ext cx="913140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52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57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E:\widok_3_v2.jpg"/>
          <p:cNvPicPr/>
          <p:nvPr/>
        </p:nvPicPr>
        <p:blipFill>
          <a:blip r:embed="rId4"/>
          <a:stretch/>
        </p:blipFill>
        <p:spPr>
          <a:xfrm>
            <a:off x="0" y="1104840"/>
            <a:ext cx="91249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63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8" descr="E:\widok_1_v2.jpg"/>
          <p:cNvPicPr/>
          <p:nvPr/>
        </p:nvPicPr>
        <p:blipFill>
          <a:blip r:embed="rId4"/>
          <a:stretch/>
        </p:blipFill>
        <p:spPr>
          <a:xfrm>
            <a:off x="0" y="1052640"/>
            <a:ext cx="9144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1"/>
          <a:srcRect l="98928" t="99052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74" name="Line 2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2"/>
          <a:srcRect l="98928" t="99052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78" name="Line 6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3"/>
          <a:srcRect l="0" t="0" r="70167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4"/>
          <a:stretch/>
        </p:blipFill>
        <p:spPr>
          <a:xfrm>
            <a:off x="539640" y="590400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82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 i zabudow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śródmiejskiego odcinka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9"/>
          <p:cNvSpPr/>
          <p:nvPr/>
        </p:nvSpPr>
        <p:spPr>
          <a:xfrm>
            <a:off x="539640" y="624960"/>
            <a:ext cx="860436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7.10.2014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ferencja 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„Atrakcyjny Szczecin – Aleja Wojska Polskiego” w ramach Westivalu Architektury 2014. Debata na temat Alei, podjęcie próby wstępnej diagnozy problemów oraz odpowiedzi na pytanie, jak odwrócić obecne, niekorzystne trendy a także, w jaki sposób zmieniać zarówno Aleję, jak i cały obszar szczecińskiego centru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7.11.2014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Sali Sesyjnej Rady Miasta Szczecin. Przedstawienie podsumowania dotychczasowych uwag, wniosków i propozycji pozyskanych po konferencji oraz planu działań związanych z rewitalizacją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Grudzień 2014 r. – działania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ramach Projektu „Moje miasto – moja ulica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Cykl wydarzeń edukacyjno-badawczych, zrealizowanych przez organizacje pozarządową, obejmowały warsztaty dla dzieci i seniorów, spotkania z ekspertami, przeprowadzenie ankiet dot. opinii i postaw mieszkańców Szczecina nt. 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6.04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w Sali Sesyjnej Rady Miasta Szczecin. Zaprezentowanie analiz komunikacyjnych dotyczących Alei Wojska Polskiego na odcinku od Placu Zwycięstwa do Placu Szarych Szeregów – 12 wariantów. Zaproszenie do składania uwa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2.07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spotkani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w Sali Sesyjnej Rady Miasta Szczecin. Zaprezentowanie nowych wariantów analiz komunikacyjnych dotyczących Alei Wojska Polskiego na odcinku od Placu Zwycięstwa do Placu Szarych Szeregów w wyniku zebranych uwag oraz sugestii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Sierpień 2015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badania socjologi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n. „Śródmiejski odcinek Alei Wojska Polskiego w oczach mieszkańców Szczecina.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 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Celem badania było uzyskanie danych i informacji służących podejmowaniu optymalnych decyzji oraz działań w procesie rewitalizacji Alei Wojska Polskiego. Elementem badań były 4 warianty analiz komunikacyjnych dotyczących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31.08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 społeczne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na Deptaku Bogusława. Zaprezentowanie wyników przeprowadzonych badan socjologicznych oraz ponowne zaprezentowanie 4 warianty analiz komunikacyjnych dotyczących Alei Wojska Polskieg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27.05.2015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Gmina Miasto Szczecin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rzystąpiła do konkursu na „Modelową Rewitalizację Miast”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, zorganizowanego przez Ministerstwo Infrastruktury i Rozwoju (obecnie Ministerstwo Rozwoju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01.08.2016 r.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podpisani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umowy dotacyjnej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między Gminą Miasto Szczecin a Ministerstwem Rozwoju na realizację projektu pn. „Rewitalizacja obszaru przestrzeni publicznej i zabudowy śródmiejskiego odcinka Alei Wojska Polskiego w Szczecni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8.01.2017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konsultacje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4wariantów przebudowy Alei z Radami Osiedli (37 rad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16.05.2017 r. 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– </a:t>
            </a:r>
            <a:r>
              <a:rPr b="1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debata</a:t>
            </a:r>
            <a:r>
              <a:rPr b="0" lang="pl-PL" sz="1100" spc="-1" strike="noStrike">
                <a:solidFill>
                  <a:srgbClr val="002060"/>
                </a:solidFill>
                <a:latin typeface="Tahoma"/>
                <a:ea typeface="Calibri"/>
              </a:rPr>
              <a:t> nt. planów rewitalizacji alei Wojska Polskiego na odcinku od Placu Zwycięstwa do Placu Szarych Szeregó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rcRect l="98928" t="99052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85" name="Line 2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rcRect l="98928" t="99052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89" name="Line 6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3"/>
          <a:srcRect l="0" t="0" r="70167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539640" y="1111320"/>
            <a:ext cx="82803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Projekt pn. „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i zabudowy śródmiejskiego odcinka Alei Wojska Polskiego w Szczecin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” jest współfinansowany ze środków Unii Europejskiej w ramach Programu Operacyjnego Pomoc Techniczna 2014-2020 i został wybrany w konkursie na „Modelową rewitalizację miast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Umowa dotacyjna z Ministerstwem Rozwoju została podpisana w dniu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1 sierpnia 2016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Wysokość przyznanej dotacji: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3.762.090 zł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Łączna wysokość projektu (kwota dotacji 90% i wkład własny 10%) wynosi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4.180.100 zł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Dotacja współfinansowana jest w 85% ze środków Unii Europejskiej, w ramach Funduszu Spójności w ramach Programu Operacyjnego Pomoc Techniczna 2014-2020 oraz w 15% z budżetu państw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Termin realizacji projektu został ustalony na dzień </a:t>
            </a: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ahoma"/>
              </a:rPr>
              <a:t>31 grudnia 2018 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539640" y="590400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94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ewitalizacja obszaru przestrzeni publicznej  i zabudow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śródmiejskiego odcinka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96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01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raz 19" descr="podklad.jpg"/>
          <p:cNvPicPr/>
          <p:nvPr/>
        </p:nvPicPr>
        <p:blipFill>
          <a:blip r:embed="rId4"/>
          <a:srcRect l="13098" t="0" r="9270" b="0"/>
          <a:stretch/>
        </p:blipFill>
        <p:spPr>
          <a:xfrm>
            <a:off x="5364000" y="984240"/>
            <a:ext cx="3600720" cy="53690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179280" y="1141200"/>
            <a:ext cx="504036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Zakres obszarowy konkursu obejmuj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Aleję Wojska Polskiego na odcinku od Planu Zwycięstwa do Placu Szarych Szereg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Plac Zgody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en u zbiegu ulicy Ściegiennego i ulicy Królowej Jadwigi (teren po dawnej fontannie tzw. „ścianie płaczu”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en u zbiegu ulicy Obrońców Stalingradu i Alei Wojska Polskiego (przed wieżowcami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odcinek ulicy Śląskiej bez przejazdu (od ulicy Więckowskiego do drogi wewnętrznej za budynkami Spółdzielni Mieszkaniowej „Śródmieście”) wraz z terenem drogi wewnętrznej za ww. budynkam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300"/>
              </a:spcAft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odcinek ulicy Jagiellońskiej (od Alei Piastów do Alei Wojska Polskiego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06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18"/>
          <p:cNvSpPr/>
          <p:nvPr/>
        </p:nvSpPr>
        <p:spPr>
          <a:xfrm>
            <a:off x="282240" y="4581360"/>
            <a:ext cx="33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Powierzchnia obszaru opracowan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konkursowego: 3,346 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10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15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250920" y="861120"/>
            <a:ext cx="504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2060"/>
                </a:solidFill>
                <a:latin typeface="Tahoma"/>
                <a:ea typeface="Times New Roman"/>
              </a:rPr>
              <a:t>Przedmiotem konkursu jest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ykonanie i zaprezentowanie przez Uczestników, przeznaczonego do realizacji, zagospodarowania przestrzeni publicznych w obszarze Alei Wojska Polskiego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dcinku pomiędzy Placem Zwycięstwa i Placem Szarych Szeregów w Szczecinie oraz przeniesienie autorskich praw majątkowych do wybranych przez Sąd Konkursowy pra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19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:\Users\mandrusz\Desktop\Przechwytywanie5.JPG"/>
          <p:cNvPicPr/>
          <p:nvPr/>
        </p:nvPicPr>
        <p:blipFill>
          <a:blip r:embed="rId5"/>
          <a:stretch/>
        </p:blipFill>
        <p:spPr>
          <a:xfrm>
            <a:off x="5292720" y="1022400"/>
            <a:ext cx="3727440" cy="52880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"/>
          <p:cNvSpPr/>
          <p:nvPr/>
        </p:nvSpPr>
        <p:spPr>
          <a:xfrm>
            <a:off x="250920" y="2487240"/>
            <a:ext cx="504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Podstawą do opracowania pracy konkursowej je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1) obowiązujący miejscowy plan zagospodarowania przestrzenne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2) koncepcja projektowa branży drogowej przebudowy Alei Wojska Polskiego, autorstwa Biura Inżynierskiego „DAMART” Kraśniański i Wspólnicy Sp. j. – Wariant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Rozwiązania projektowe pracy konkursowej powinny być zgodne z założeniami przyjętej przez Gminę Miasto Szczecin ww. koncepcji projektowej w Wariancie nr 1, przy założeniu możliwej jej modyfikacji nie naruszającej zasadniczych założeń dot.: parametrów jezdni, sposobu rozwiązania parkowania samochodów (w zakresie utrzymania zasady) oraz rozwiązań w zakresie komunikacji publicznej (nie włączając w to rozmieszczenia przystanków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Tahoma"/>
              </a:rPr>
              <a:t>3) inne uwarunkowania opisane w Regulaminie konkurs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24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29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79280" y="1054440"/>
            <a:ext cx="4969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Celem konkursu jest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33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rostokąt 13"/>
          <p:cNvSpPr/>
          <p:nvPr/>
        </p:nvSpPr>
        <p:spPr>
          <a:xfrm>
            <a:off x="324000" y="1413000"/>
            <a:ext cx="864072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Wybór najlepszego projektu przebudowy Alei Wojska Polskiego (w zakresie pasa drogowego) na odcinku od Placu Zwycięstwa do Placu Szarych Szeregów wraz z terenami i ulicami sąsiadującym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projektu nowego rozwiązania funkcjonalnego i przestrzennego w obszarze opracowania konkursowego, zwiększającego atrakcyjność śródmiejskiego odcinka Alei Wojska Polskiego jako miejsca zamieszkania oraz aktywności społeczno-gospodarczej i kulturalnej, poprzez odpowiednie kształtowanie przestrzeni miejskiej, w tym organizowanie atrakcyjnych przestrzeni publicznych i komunikacyjnych w śródmieści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koncepcji projektowej, poprawiającej estetykę obszaru poprzez przedstawienie spójnej wizji kolorystyki elewacji – dla pierzei wzdłuż Alei Wojska Polskiego na odcinku pomiędzy Placem Zgody i ulicą Jagiellońską – przy założeniu utrzymania kolorystyki już zrealizowanych obiektów, w szczególności wpisanych do ewidencji zabytk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projektu indywidualnego mebla miejskiego wraz z aranżacją przestrzeni wskazanych obszaró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00206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Uzyskanie koncepcji projektowej pokazującej spójny sposób realizacji zagadnienia reklamy w przestrzeni miejskiej, z uwzględnieniem tablic i urządzeń reklamowych na elewacjach budynków (w tym szyldów) – dla pierzei wzdłuż Alei Wojska Polskiego na odcinku pomiędzy Placem Zgody i ulicą Jagiellońską – przy założeniu realizacji zadania wg zapisów projektu "Uchwały krajobrazowej Miasta Szczecin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5" descr=""/>
          <p:cNvPicPr/>
          <p:nvPr/>
        </p:nvPicPr>
        <p:blipFill>
          <a:blip r:embed="rId1"/>
          <a:srcRect l="98916" t="99048" r="0" b="0"/>
          <a:stretch/>
        </p:blipFill>
        <p:spPr>
          <a:xfrm>
            <a:off x="10283760" y="6093000"/>
            <a:ext cx="77760" cy="77760"/>
          </a:xfrm>
          <a:prstGeom prst="rect">
            <a:avLst/>
          </a:prstGeom>
          <a:ln w="0">
            <a:noFill/>
          </a:ln>
        </p:spPr>
      </p:pic>
      <p:sp>
        <p:nvSpPr>
          <p:cNvPr id="137" name="Łącznik prosty 16"/>
          <p:cNvSpPr/>
          <p:nvPr/>
        </p:nvSpPr>
        <p:spPr>
          <a:xfrm>
            <a:off x="0" y="857160"/>
            <a:ext cx="9144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5" descr=""/>
          <p:cNvPicPr/>
          <p:nvPr/>
        </p:nvPicPr>
        <p:blipFill>
          <a:blip r:embed="rId2"/>
          <a:srcRect l="98916" t="99048" r="0" b="0"/>
          <a:stretch/>
        </p:blipFill>
        <p:spPr>
          <a:xfrm>
            <a:off x="9637560" y="6164280"/>
            <a:ext cx="78120" cy="777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500040" y="861840"/>
            <a:ext cx="8677440" cy="53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27612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2761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Łącznik prosty 15"/>
          <p:cNvSpPr/>
          <p:nvPr/>
        </p:nvSpPr>
        <p:spPr>
          <a:xfrm>
            <a:off x="0" y="270000"/>
            <a:ext cx="9144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rcRect l="0" t="0" r="70151" b="41200"/>
          <a:stretch/>
        </p:blipFill>
        <p:spPr>
          <a:xfrm>
            <a:off x="576360" y="287280"/>
            <a:ext cx="612720" cy="5446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6"/>
          <p:cNvSpPr/>
          <p:nvPr/>
        </p:nvSpPr>
        <p:spPr>
          <a:xfrm>
            <a:off x="1042920" y="33336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Arial"/>
              </a:rPr>
              <a:t>Konkurs architektoniczny </a:t>
            </a: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na opracowanie koncepcji zagospodarowania przestrzeni publiczny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Tahoma"/>
                <a:ea typeface="Calibri"/>
              </a:rPr>
              <a:t>w obszarze Alei Wojska Polskiego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12"/>
          <p:cNvSpPr/>
          <p:nvPr/>
        </p:nvSpPr>
        <p:spPr>
          <a:xfrm>
            <a:off x="7319880" y="635796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2060"/>
                </a:solidFill>
                <a:latin typeface="Calibri"/>
              </a:rPr>
              <a:t>Szczecin, 06.2017 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0" y="6427800"/>
            <a:ext cx="9144000" cy="144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0" y="6572160"/>
            <a:ext cx="9144000" cy="1800"/>
          </a:xfrm>
          <a:prstGeom prst="line">
            <a:avLst/>
          </a:prstGeom>
          <a:ln cap="sq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4"/>
          <a:stretch/>
        </p:blipFill>
        <p:spPr>
          <a:xfrm>
            <a:off x="250920" y="5830920"/>
            <a:ext cx="4319640" cy="477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179280" y="1105200"/>
            <a:ext cx="360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Terminy przewidziane  w konkursie</a:t>
            </a:r>
            <a:r>
              <a:rPr b="0" lang="pl-PL" sz="1400" spc="-1" strike="noStrike">
                <a:solidFill>
                  <a:srgbClr val="002060"/>
                </a:solidFill>
                <a:latin typeface="Tahoma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1719360"/>
          <a:ext cx="8496360" cy="3581280"/>
        </p:xfrm>
        <a:graphic>
          <a:graphicData uri="http://schemas.openxmlformats.org/drawingml/2006/table">
            <a:tbl>
              <a:tblPr/>
              <a:tblGrid>
                <a:gridCol w="5400720"/>
                <a:gridCol w="3095640"/>
              </a:tblGrid>
              <a:tr h="500040"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910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Czynnoś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45910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Ter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pytań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tyczących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wniosków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 dopuszczenie do udziału w konkursi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3 lipc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Udziele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dpowiedzi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na pytania Uczestników dotyczące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wniosk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7 lipc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wniosków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o dopuszczenie do udziału w konkur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3 lipc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Zawiadomienie Uczestników 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puszczeniu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 udziału w konkurs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4 sierpni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pytań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tyczących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egulami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6 sierpnia 2017 r.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do godz. 10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Udzieleni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odpowiedzi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na pytania Uczestników dotyczące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egulaminu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22 sierpni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Składanie prac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konkursowy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10 listopada 2017 r. 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do godziny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Rozstrzygnięcie</a:t>
                      </a: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 konkurs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270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w dniu </a:t>
                      </a:r>
                      <a:r>
                        <a:rPr b="1" lang="pl-PL" sz="1200" spc="-1" strike="noStrike">
                          <a:solidFill>
                            <a:srgbClr val="002060"/>
                          </a:solidFill>
                          <a:latin typeface="Tahoma"/>
                          <a:ea typeface="Calibri"/>
                        </a:rPr>
                        <a:t>30 listopada 2017 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02:05Z</dcterms:created>
  <dc:creator>abednarz; jbondar</dc:creator>
  <dc:description/>
  <dc:language>en-US</dc:language>
  <cp:lastModifiedBy>jbondar</cp:lastModifiedBy>
  <dcterms:modified xsi:type="dcterms:W3CDTF">2017-06-27T09:33:41Z</dcterms:modified>
  <cp:revision>425</cp:revision>
  <dc:subject/>
  <dc:title>Slajd 1</dc:title>
</cp:coreProperties>
</file>